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63E-3AE1-40B0-924E-E0CE0E9E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73F-9175-45FD-9127-9A4B840F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481-EDBB-4142-B7E7-67EAA679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9AE-BCE0-429A-99E7-DDDFBB76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6ED-3DFC-474D-9625-4E588F26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033-1166-4E5B-B8A4-D11BAE4A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DA8-C5D0-4807-8E15-B450A38C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2D9-F1E9-4C73-98E5-1E71FCE0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AD5-123A-4F8A-8D71-BC4BFA83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91D-9572-4E70-8651-6B2206F9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CD5-D382-498C-A6FF-A7D04AD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84F-81E9-4FA1-A4A2-35973024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34EA-DDE6-455F-AF19-A00ED19AC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796080" cy="133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6705720" cy="126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1480" y="220968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8487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010280" cy="114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305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7543800" cy="1761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91520" y="457200"/>
            <a:ext cx="609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8:43:18Z</dcterms:created>
  <dc:creator>Graham</dc:creator>
  <dc:description/>
  <dc:language>en-US</dc:language>
  <cp:lastModifiedBy>Graham</cp:lastModifiedBy>
  <dcterms:modified xsi:type="dcterms:W3CDTF">2012-09-30T18:43:33Z</dcterms:modified>
  <cp:revision>1</cp:revision>
  <dc:subject/>
  <dc:title>Slide 1</dc:title>
</cp:coreProperties>
</file>